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1501-436D-4DB5-B883-C2D686BA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A4DD-BEBB-4718-A46E-DC54438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72A4-785A-4EF2-A5FA-D4ED079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E712-EE78-4223-9C06-43D6A87E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BA8-5817-4988-918D-E915B8CD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7DD2-F07E-4610-912A-AC90AB10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4A4F-BA1A-4E0F-A3B7-C494D81D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A965-6BE4-40AC-8A4D-AD4FB0E2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3265-1876-40CA-9F78-6CE7CBB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BD2-0264-4841-8007-F886411F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7B6E-82E9-472A-B846-5160CBC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F056-FF28-41CF-9E4C-AB4A23A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9A8-DDB6-4828-A7F4-54814BB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0512-75B6-4890-B413-CBB23C8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B7E3-4AA5-4A09-BB0A-A3C0769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62EE-C140-49A4-B633-DDA0D227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0139-AB5C-4C0B-AFA6-0B5CF2FD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32A1-8C30-40D6-BDA6-2389E8C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9FC8-15D6-4652-A9D5-F2EFAD1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9603-CEE6-4CD9-AB87-8F46FE9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DE15-70F5-457E-B9BA-A393C0F6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E6B3-582B-4F36-AA23-961A4F6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BD96-7E06-4BB7-90F5-DE23206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599A-8DF4-43A3-B4BC-25277E2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E7A5-4F72-4182-9995-EADF3B72D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4EF-3066-48AF-8108-08FC3AC8D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oles of the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9720" y="2085840"/>
          <a:ext cx="783432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85840"/>
                    <a:ext cx="7834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0A17-02C1-403D-95E5-21DE219F58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:  Exec Comm. vs. cBI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4840" y="1444680"/>
          <a:ext cx="5921280" cy="42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4680"/>
                    <a:ext cx="59212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5A02-13A0-4B12-8955-B9E80A82A6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5:36:56Z</dcterms:created>
  <dc:creator>klinnihan</dc:creator>
  <dc:description/>
  <dc:language>en-US</dc:language>
  <cp:lastModifiedBy>Sima Misra</cp:lastModifiedBy>
  <cp:lastPrinted>2005-06-01T19:24:06Z</cp:lastPrinted>
  <dcterms:modified xsi:type="dcterms:W3CDTF">2005-09-29T19:34:11Z</dcterms:modified>
  <cp:revision>49</cp:revision>
  <dc:subject/>
  <dc:title>Strategic Se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4845545</vt:r8>
  </property>
  <property fmtid="{D5CDD505-2E9C-101B-9397-08002B2CF9AE}" pid="3" name="_AuthorEmail">
    <vt:lpwstr>uman9@comcast.net</vt:lpwstr>
  </property>
  <property fmtid="{D5CDD505-2E9C-101B-9397-08002B2CF9AE}" pid="4" name="_AuthorEmailDisplayName">
    <vt:lpwstr>Ulrich Nettesheim</vt:lpwstr>
  </property>
  <property fmtid="{D5CDD505-2E9C-101B-9397-08002B2CF9AE}" pid="5" name="_EmailSubject">
    <vt:lpwstr>Head Search Mtg. 5/31</vt:lpwstr>
  </property>
</Properties>
</file>